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gif" ContentType="image/gif"/>
  <Override PartName="/ppt/media/image9.jpeg" ContentType="image/jpeg"/>
  <Override PartName="/ppt/media/image10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B682B-8CF5-4344-8BF8-481F3765D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3F0BB-E447-4D81-8488-24644859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CC122-2C15-4BFA-94DE-E2EECB4D8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9F2D9-6107-4148-840A-B76509150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EC9B-A654-4030-B371-D27E0C6CB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4B42-44AF-4A59-9F89-3926DA7F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F5E0-C34A-4A92-BE14-0E4B50B9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6D34-EAD2-435A-A4EA-6DC1394A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EC46-3FE4-4C1E-A2DC-E51A276C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B985-9BFD-4B41-A5D2-248D2521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80FB-17D2-4D4D-A584-2A3F1191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A9D18-F5AE-421F-B69E-7B2C0F00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8C30-5C1C-4830-B681-802038BA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FF85-032E-43E7-8281-75A31D09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03E8-A31D-424F-849C-27535C5E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D773-3FA6-4EF8-A60D-CF258AF8E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4ED3-A0AB-412E-8EF4-E639B3505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4D291-50E3-46DA-BEB9-0A0C0950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D2877-9B3C-4093-85B2-DD8C06F9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351D2-A89D-4603-9FE8-EC1EE64C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FFE68-B7B7-4337-BEF0-D4E00AED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55B43-6C6E-4420-AC7A-2A98F554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CE439-12C9-43C0-B5DF-FDDE5FC7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EA277-6180-4EFE-B36F-40F3194B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B649-8B0B-4DEC-AB03-72F0A8534A4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2AAC-3239-433E-87CB-ADD2C8A4F482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D0EF-21C2-4494-A140-3C6069DEF092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F72B-D2CF-4CA4-9514-C5BE86B2134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560" y="22096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9966"/>
                </a:solidFill>
                <a:latin typeface="Comic Sans MS"/>
              </a:rPr>
              <a:t>ШКОЛЬНИК И КОМПЬЮТЕР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62120" y="4267080"/>
            <a:ext cx="71625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ff"/>
                </a:solidFill>
                <a:latin typeface="Arial"/>
              </a:rPr>
              <a:t>Материалы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ff"/>
                </a:solidFill>
                <a:latin typeface="Arial"/>
              </a:rPr>
              <a:t>для родительского собрани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ff"/>
                </a:solidFill>
                <a:latin typeface="Arial"/>
              </a:rPr>
              <a:t>подготовлены Кудрявцевой О.А</a:t>
            </a:r>
            <a:r>
              <a:rPr b="0" lang="ru-RU" sz="3400" spc="-1" strike="noStrike">
                <a:solidFill>
                  <a:srgbClr val="6600ff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007400" y="76320"/>
            <a:ext cx="1908000" cy="174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D3F2-0E31-4FD4-A660-8233E0C2E56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30877A6-7143-4B0E-AC6B-D9AD8674D734}" type="datetime1">
              <a:rPr lang="en-US"/>
              <a:t>07/29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76320" y="685800"/>
            <a:ext cx="5410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Нагрузка на глаза в школе, дома для выполнения домашнего задания, увеличивается и дополняется просмотром телепередач, пользованием компьютером, компьютерными играми.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При всем этом глаза, как и тело постоянно вынуждены находиться в одном и том же положении. А недостаток движения ведет к возникновению многих проблем в растущем организме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921800" y="0"/>
            <a:ext cx="1222200" cy="11206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943600" y="1752480"/>
            <a:ext cx="27576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CDFE4-2377-41ED-85BD-9F537819BCE3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2BF131-DB38-454E-A169-CFD0BBC29800}" type="datetime1">
              <a:rPr lang="en-US"/>
              <a:t>07/29/26</a:t>
            </a:fld>
          </a:p>
        </p:txBody>
      </p:sp>
    </p:spTree>
  </p:cSld>
  <p:transition>
    <p:pull dir="r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04920" y="380880"/>
            <a:ext cx="8381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457200"/>
            <a:ext cx="8534160" cy="75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66"/>
                </a:solidFill>
                <a:uFillTx/>
                <a:latin typeface="Arial"/>
              </a:rPr>
              <a:t>Проблем помогут </a:t>
            </a:r>
            <a:r>
              <a:rPr b="1" i="1" lang="ru-RU" sz="3200" spc="-1" strike="noStrike" u="sng">
                <a:solidFill>
                  <a:srgbClr val="ff0066"/>
                </a:solidFill>
                <a:uFillTx/>
                <a:latin typeface="Arial"/>
                <a:ea typeface="Arial"/>
              </a:rPr>
              <a:t>избежа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3200" spc="-1" strike="noStrike" u="sng">
                <a:solidFill>
                  <a:srgbClr val="ff0066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Четкое выполнение </a:t>
            </a: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режима дня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, труда и отдых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Обязательные </a:t>
            </a: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прогулки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после школы на свежем воздухе, закаливающие процедуры для тела, проветривание комнат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Правильная </a:t>
            </a: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осанка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за столом и монитор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Освещение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помещения предпочтительнее дневное. Стены комнаты спокойных тон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Время безопасной работы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за компьютером зависит от возраста ребен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921800" y="0"/>
            <a:ext cx="1222200" cy="112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E8591-4C94-4393-8ED0-115E3C68E057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175532-E1B8-40B5-A965-B70A518DA1DE}" type="datetime1">
              <a:rPr lang="en-US"/>
              <a:t>07/29/26</a:t>
            </a:fld>
          </a:p>
        </p:txBody>
      </p:sp>
    </p:spTree>
  </p:cSld>
  <p:transition>
    <p:pull dir="r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80600" y="4572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Длительность работы за ПК </a:t>
            </a:r>
            <a:br>
              <a:rPr sz="4000"/>
            </a:b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(</a:t>
            </a:r>
            <a:r>
              <a:rPr b="1" lang="ru-RU" sz="3100" spc="-1" strike="noStrike">
                <a:solidFill>
                  <a:srgbClr val="6600ff"/>
                </a:solidFill>
                <a:latin typeface="Arial"/>
              </a:rPr>
              <a:t>не должна превышать)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182880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92720" y="1941480"/>
            <a:ext cx="571320" cy="114480"/>
          </a:xfrm>
          <a:custGeom>
            <a:avLst/>
            <a:gdLst>
              <a:gd name="textAreaLeft" fmla="*/ 71280 w 571320"/>
              <a:gd name="textAreaRight" fmla="*/ 500040 w 571320"/>
              <a:gd name="textAreaTop" fmla="*/ 28440 h 114480"/>
              <a:gd name="textAreaBottom" fmla="*/ 86040 h 114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92720" y="2438280"/>
            <a:ext cx="571320" cy="114480"/>
          </a:xfrm>
          <a:custGeom>
            <a:avLst/>
            <a:gdLst>
              <a:gd name="textAreaLeft" fmla="*/ 71280 w 571320"/>
              <a:gd name="textAreaRight" fmla="*/ 500040 w 571320"/>
              <a:gd name="textAreaTop" fmla="*/ 28440 h 114480"/>
              <a:gd name="textAreaBottom" fmla="*/ 86040 h 114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92720" y="2935440"/>
            <a:ext cx="571320" cy="114120"/>
          </a:xfrm>
          <a:custGeom>
            <a:avLst/>
            <a:gdLst>
              <a:gd name="textAreaLeft" fmla="*/ 71280 w 571320"/>
              <a:gd name="textAreaRight" fmla="*/ 500040 w 571320"/>
              <a:gd name="textAreaTop" fmla="*/ 28440 h 114120"/>
              <a:gd name="textAreaBottom" fmla="*/ 85680 h 114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92720" y="3494160"/>
            <a:ext cx="571320" cy="114120"/>
          </a:xfrm>
          <a:custGeom>
            <a:avLst/>
            <a:gdLst>
              <a:gd name="textAreaLeft" fmla="*/ 71280 w 571320"/>
              <a:gd name="textAreaRight" fmla="*/ 500040 w 571320"/>
              <a:gd name="textAreaTop" fmla="*/ 28440 h 114120"/>
              <a:gd name="textAreaBottom" fmla="*/ 85680 h 114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92720" y="3990960"/>
            <a:ext cx="571320" cy="114480"/>
          </a:xfrm>
          <a:custGeom>
            <a:avLst/>
            <a:gdLst>
              <a:gd name="textAreaLeft" fmla="*/ 71280 w 571320"/>
              <a:gd name="textAreaRight" fmla="*/ 500040 w 571320"/>
              <a:gd name="textAreaTop" fmla="*/ 28440 h 114480"/>
              <a:gd name="textAreaBottom" fmla="*/ 86040 h 114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92720" y="4487760"/>
            <a:ext cx="571320" cy="114480"/>
          </a:xfrm>
          <a:custGeom>
            <a:avLst/>
            <a:gdLst>
              <a:gd name="textAreaLeft" fmla="*/ 71280 w 571320"/>
              <a:gd name="textAreaRight" fmla="*/ 500040 w 571320"/>
              <a:gd name="textAreaTop" fmla="*/ 28440 h 114480"/>
              <a:gd name="textAreaBottom" fmla="*/ 86040 h 114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41800" y="1876320"/>
            <a:ext cx="795240" cy="360"/>
          </a:xfrm>
          <a:prstGeom prst="rect">
            <a:avLst/>
          </a:prstGeom>
          <a:solidFill>
            <a:srgbClr val="efb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41800" y="1876320"/>
            <a:ext cx="795240" cy="360"/>
          </a:xfrm>
          <a:prstGeom prst="rect">
            <a:avLst/>
          </a:prstGeom>
          <a:solidFill>
            <a:srgbClr val="efb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41800" y="1876320"/>
            <a:ext cx="795240" cy="360"/>
          </a:xfrm>
          <a:prstGeom prst="rect">
            <a:avLst/>
          </a:prstGeom>
          <a:solidFill>
            <a:srgbClr val="efb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41800" y="1876320"/>
            <a:ext cx="795240" cy="360"/>
          </a:xfrm>
          <a:prstGeom prst="rect">
            <a:avLst/>
          </a:prstGeom>
          <a:solidFill>
            <a:srgbClr val="efb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41800" y="1876320"/>
            <a:ext cx="795240" cy="360"/>
          </a:xfrm>
          <a:prstGeom prst="rect">
            <a:avLst/>
          </a:prstGeom>
          <a:solidFill>
            <a:srgbClr val="efb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41800" y="1876320"/>
            <a:ext cx="795240" cy="360"/>
          </a:xfrm>
          <a:prstGeom prst="rect">
            <a:avLst/>
          </a:prstGeom>
          <a:solidFill>
            <a:srgbClr val="efb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90720" y="1876320"/>
          <a:ext cx="7390440" cy="4371840"/>
        </p:xfrm>
        <a:graphic>
          <a:graphicData uri="http://schemas.openxmlformats.org/drawingml/2006/table">
            <a:tbl>
              <a:tblPr/>
              <a:tblGrid>
                <a:gridCol w="3008880"/>
                <a:gridCol w="2208600"/>
                <a:gridCol w="2172960"/>
              </a:tblGrid>
              <a:tr h="71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19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5-6 ле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efb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19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7 мин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efbf00"/>
                    </a:solidFill>
                  </a:tcPr>
                </a:tc>
              </a:tr>
              <a:tr h="79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19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 клас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efb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19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0 мин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efbf00"/>
                    </a:solidFill>
                  </a:tcPr>
                </a:tc>
              </a:tr>
              <a:tr h="71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19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-5 клас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efb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19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5 мин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efbf00"/>
                    </a:solidFill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19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6-7 клас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efb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19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0 мин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efbf00"/>
                    </a:solidFill>
                  </a:tcPr>
                </a:tc>
              </a:tr>
              <a:tr h="71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19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8-9 клас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efb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19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5 мин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efbf00"/>
                    </a:solidFill>
                  </a:tcPr>
                </a:tc>
              </a:tr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19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0-11 клас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efb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19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0 мин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efbf00"/>
                    </a:solidFill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4191120" y="2057400"/>
            <a:ext cx="1904760" cy="380880"/>
          </a:xfrm>
          <a:custGeom>
            <a:avLst/>
            <a:gdLst>
              <a:gd name="textAreaLeft" fmla="*/ 237960 w 1904760"/>
              <a:gd name="textAreaRight" fmla="*/ 1666800 w 19047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67080" y="2819520"/>
            <a:ext cx="1752840" cy="380880"/>
          </a:xfrm>
          <a:custGeom>
            <a:avLst/>
            <a:gdLst>
              <a:gd name="textAreaLeft" fmla="*/ 218880 w 1752840"/>
              <a:gd name="textAreaRight" fmla="*/ 1533960 w 17528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67080" y="3581280"/>
            <a:ext cx="1828800" cy="381240"/>
          </a:xfrm>
          <a:custGeom>
            <a:avLst/>
            <a:gdLst>
              <a:gd name="textAreaLeft" fmla="*/ 228600 w 1828800"/>
              <a:gd name="textAreaRight" fmla="*/ 1600200 w 1828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4267080"/>
            <a:ext cx="1752840" cy="457200"/>
          </a:xfrm>
          <a:custGeom>
            <a:avLst/>
            <a:gdLst>
              <a:gd name="textAreaLeft" fmla="*/ 218880 w 1752840"/>
              <a:gd name="textAreaRight" fmla="*/ 1533960 w 17528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67080" y="5029200"/>
            <a:ext cx="1752840" cy="380880"/>
          </a:xfrm>
          <a:custGeom>
            <a:avLst/>
            <a:gdLst>
              <a:gd name="textAreaLeft" fmla="*/ 218880 w 1752840"/>
              <a:gd name="textAreaRight" fmla="*/ 1533960 w 17528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67080" y="5638680"/>
            <a:ext cx="1752840" cy="381240"/>
          </a:xfrm>
          <a:custGeom>
            <a:avLst/>
            <a:gdLst>
              <a:gd name="textAreaLeft" fmla="*/ 218880 w 1752840"/>
              <a:gd name="textAreaRight" fmla="*/ 1533960 w 175284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921800" y="0"/>
            <a:ext cx="1222200" cy="112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B7B79-BEC4-415D-9D17-A59EF0DAC49C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374D00-F6FA-4D50-AC81-9263904B7050}" type="datetime1">
              <a:rPr lang="en-US"/>
              <a:t>07/29/26</a:t>
            </a:fld>
          </a:p>
        </p:txBody>
      </p:sp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3510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Lucida Sans Unicode"/>
              </a:rPr>
              <a:t>Общее время работы с компьютером в течение дн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1828800"/>
            <a:ext cx="2209680" cy="12193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8-10 лет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1828800"/>
            <a:ext cx="2057400" cy="1143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11-13 л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00800" y="1828800"/>
            <a:ext cx="2209680" cy="1143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14-16 л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292040" y="3584160"/>
            <a:ext cx="12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Не боле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4187880" y="3584160"/>
            <a:ext cx="12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Не боле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7083360" y="350820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Не боле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19320" y="3048120"/>
            <a:ext cx="609480" cy="1600200"/>
          </a:xfrm>
          <a:prstGeom prst="downArrow">
            <a:avLst>
              <a:gd name="adj1" fmla="val 50000"/>
              <a:gd name="adj2" fmla="val 6563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14800" y="2971800"/>
            <a:ext cx="609480" cy="1600200"/>
          </a:xfrm>
          <a:prstGeom prst="downArrow">
            <a:avLst>
              <a:gd name="adj1" fmla="val 50000"/>
              <a:gd name="adj2" fmla="val 6563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0280" y="2895480"/>
            <a:ext cx="533520" cy="1524240"/>
          </a:xfrm>
          <a:prstGeom prst="downArrow">
            <a:avLst>
              <a:gd name="adj1" fmla="val 50000"/>
              <a:gd name="adj2" fmla="val 7142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4648320"/>
            <a:ext cx="1905120" cy="16761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05320" y="4572000"/>
            <a:ext cx="2057400" cy="17524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77120" y="4495680"/>
            <a:ext cx="2057400" cy="17528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50840" y="47894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43000" y="50292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30-35 ми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49528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35-45 ми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80320" y="4869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0" y="48769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45 м. -  1 ча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921800" y="0"/>
            <a:ext cx="1222200" cy="112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96354-6139-4B4A-B814-857A9C433ED3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EA3958-C4F4-424F-A006-364110A95942}" type="datetime1">
              <a:rPr lang="en-US"/>
              <a:t>07/29/26</a:t>
            </a:fld>
          </a:p>
        </p:txBody>
      </p:sp>
    </p:spTree>
  </p:cSld>
  <p:transition>
    <p:pull dir="rd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зультаты опроса учащих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1344600"/>
            <a:ext cx="4724280" cy="32274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572000" y="3276720"/>
            <a:ext cx="4564080" cy="311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74606-C613-4BB6-B19F-6CD59DDA4AE8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1DCCF8-871A-485D-B08D-63708BD5AA2F}" type="datetime1">
              <a:rPr lang="en-US"/>
              <a:t>07/29/26</a:t>
            </a:fld>
          </a:p>
        </p:txBody>
      </p:sp>
    </p:spTree>
  </p:cSld>
  <p:transition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Lucida Sans Unicode"/>
              </a:rPr>
              <a:t>Профилактика зрительного и общего утом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-15264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Проведение упражнений для глаз, физкультминутки улучшают функциональное состояние зрительного анализатора, центральной нервной, сердечно-сосудистой, дыхательной, мышечной и других систем организма, способствует ликвидации застойных явлений в нижней половине тела и ног, образующихся при работе в положении сидя, улучшают кровоснабжение мозга, снимают зрительное утом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921800" y="0"/>
            <a:ext cx="1222200" cy="11206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Дети-Индиго"/>
          <p:cNvPicPr/>
          <p:nvPr/>
        </p:nvPicPr>
        <p:blipFill>
          <a:blip r:embed="rId2"/>
          <a:stretch/>
        </p:blipFill>
        <p:spPr>
          <a:xfrm>
            <a:off x="6629400" y="2193840"/>
            <a:ext cx="2362320" cy="199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29A5A-ED56-4AA4-9A68-7CDB03ACE10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1B18F9-B0FD-4856-938B-826E79D5F0C6}" type="datetime1">
              <a:rPr lang="en-US"/>
              <a:t>07/29/26</a:t>
            </a:fld>
          </a:p>
        </p:txBody>
      </p:sp>
    </p:spTree>
  </p:cSld>
  <p:transition>
    <p:pull dir="rd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4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4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4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4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Arial"/>
              </a:rPr>
              <a:t>ПОМНИТ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Выполнение рекомендаций и несложных упражнений поможет сохранить здоровье вашего ребе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921800" y="0"/>
            <a:ext cx="1222200" cy="11206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276720" y="4419720"/>
            <a:ext cx="3352680" cy="213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E8AF0-14D1-4CF0-9525-359AE0F679E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CE610B-8027-4A46-BA3B-ADC0C6C34392}" type="datetime1">
              <a:rPr lang="en-US"/>
              <a:t>07/29/26</a:t>
            </a:fld>
          </a:p>
        </p:txBody>
      </p:sp>
    </p:spTree>
  </p:cSld>
  <p:transition>
    <p:pull dir="rd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28600" y="1142640"/>
            <a:ext cx="4952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Реальные жизненные ценности, которые под влиянием взрослых, родителей и учителей, формируются у детей, определят мир, в котором мы будем жить в будущ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921800" y="0"/>
            <a:ext cx="1222200" cy="11206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334120" y="1219320"/>
            <a:ext cx="3666960" cy="5124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05488-29A8-4BAC-9856-D4DADF96DBF7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F70878-A936-4DDC-AB7F-33A6922631C1}" type="datetime1">
              <a:rPr lang="en-US"/>
              <a:t>07/29/26</a:t>
            </a:fld>
          </a:p>
        </p:txBody>
      </p:sp>
    </p:spTree>
  </p:cSld>
  <p:transition>
    <p:pull dir="r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57800" y="1066680"/>
            <a:ext cx="33526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  <a:ea typeface="Arial"/>
              </a:rPr>
              <a:t>«Техника! Такое чувство, как будто нас уносит по этой огромной реке – мы не знаем, ни куда, ни зачем, но нас уже захватило течением. Я думаю, нам следует остановиться и оглядеться, пока еще не поздно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.М. Будун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 rot="20730600">
            <a:off x="1450440" y="1412640"/>
            <a:ext cx="2249640" cy="34765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921800" y="0"/>
            <a:ext cx="1222200" cy="112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007F1-66D1-4E8E-906C-A4A0610BEEE6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2CE2AC-2F7A-494E-82D7-D3D3B5BAAC54}" type="datetime1">
              <a:rPr lang="en-US"/>
              <a:t>07/29/26</a:t>
            </a:fld>
          </a:p>
        </p:txBody>
      </p:sp>
    </p:spTree>
  </p:cSld>
  <p:transition>
    <p:pull dir="r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9907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Компьютеры занимают все больше места и времени в распорядке жизни взрослых и детей, </a:t>
            </a:r>
            <a:br>
              <a:rPr sz="2400"/>
            </a:b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до 60% российских подростков чрезмерно увлекаются компьютерными играми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. </a:t>
            </a:r>
            <a:br>
              <a:rPr sz="2400"/>
            </a:b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Увеличивается не только количество ПК, но происходит также их качественное изменение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7760" y="2666520"/>
            <a:ext cx="6095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Современный ребенок существенно отличается от сверстника, например, двадцатилетней давности более низкими показателями здоровья и уровня сопротивляемости неблагоприятным факторам среды. 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Именно поэтому, соблюдение правил работы с ПК на данном этапе развития компьютерных технологий является актуаль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921800" y="0"/>
            <a:ext cx="1222200" cy="1120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07880" y="2895480"/>
            <a:ext cx="256392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4127B-182F-4B2B-B649-6ED89A3B18E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C724C9-4CC1-4AF0-8080-F3BB0BA66FEB}" type="datetime1">
              <a:rPr lang="en-US"/>
              <a:t>07/29/26</a:t>
            </a:fld>
          </a:p>
        </p:txBody>
      </p:sp>
    </p:spTree>
  </p:cSld>
  <p:transition>
    <p:pull dir="r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cc"/>
                </a:solidFill>
                <a:latin typeface="Lucida Console"/>
              </a:rPr>
              <a:t>Темы для обсужд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Организация рабочего места школьн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Режим и длительность занятий с использованием компьюте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Профилактика зрительного и общего утом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921800" y="0"/>
            <a:ext cx="1222200" cy="1120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4955C-05BA-4C79-A7A6-3B66E9580C0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8CB508C-443C-4BA2-9E23-6EFE610FCD94}" type="datetime1">
              <a:rPr lang="en-US"/>
              <a:t>07/29/26</a:t>
            </a:fld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ff"/>
                </a:solidFill>
                <a:latin typeface="Lucida Sans Unicode"/>
              </a:rPr>
              <a:t>Организация рабочего места школь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149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90720" y="2362320"/>
          <a:ext cx="7315200" cy="3919320"/>
        </p:xfrm>
        <a:graphic>
          <a:graphicData uri="http://schemas.openxmlformats.org/drawingml/2006/table">
            <a:tbl>
              <a:tblPr/>
              <a:tblGrid>
                <a:gridCol w="1981080"/>
                <a:gridCol w="1389240"/>
                <a:gridCol w="2116080"/>
                <a:gridCol w="182880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ст учащегося 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8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8080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ысота над полом, м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8080"/>
                      </a:solidFill>
                    </a:lnR>
                    <a:lnT w="12240">
                      <a:solidFill>
                        <a:srgbClr val="008080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т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странство для ног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мен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у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808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6-1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808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1-1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808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6-1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808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1-1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808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лее 1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8080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solidFill>
                      <a:srgbClr val="008080"/>
                    </a:solidFill>
                  </a:tcPr>
                </a:tc>
              </a:tr>
            </a:tbl>
          </a:graphicData>
        </a:graphic>
      </p:graphicFrame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921800" y="0"/>
            <a:ext cx="1222200" cy="11206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65040" y="1371600"/>
            <a:ext cx="794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  <a:ea typeface="Arial"/>
              </a:rPr>
              <a:t>* Мебель (стол и стул) по своим размерам должны соответствовать росту ребен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563C0-92AE-44D6-9454-DE75128F333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BC1F69-94B1-44C0-9768-1F232D9D60B3}" type="datetime1">
              <a:rPr lang="en-US"/>
              <a:t>07/29/26</a:t>
            </a:fld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8842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* Стол должен быть одноместным. Сиденье и спинки стульев должны быть полумягкими, покрытыми воздухопроницаемым, не электролизующимся и не скользким материалом, легко поддающимся очистке от загряз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921800" y="0"/>
            <a:ext cx="1222200" cy="1120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276720" y="3733920"/>
            <a:ext cx="2971800" cy="276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D47D8-7C09-4D5F-93C7-1F344BA8FD73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5CDC79-2800-46B9-8ACD-54ECCE4EC235}" type="datetime1">
              <a:rPr lang="en-US"/>
              <a:t>07/29/26</a:t>
            </a:fld>
          </a:p>
        </p:txBody>
      </p:sp>
    </p:spTree>
  </p:cSld>
  <p:transition>
    <p:pull dir="r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457200"/>
            <a:ext cx="8153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43400" y="191772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*Горизонтальная поверхность стола для монитора и сидение стула должны поддаваться плавной, легкой и надежной регулировке по высот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90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921800" y="0"/>
            <a:ext cx="1222200" cy="1120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3498840" cy="3886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266D5-E043-4513-9644-8742E4F13E9B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EC2574-9DAC-412C-B1F5-70A285566FE8}" type="datetime1">
              <a:rPr lang="en-US"/>
              <a:t>07/29/26</a:t>
            </a:fld>
          </a:p>
        </p:txBody>
      </p:sp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1447560"/>
            <a:ext cx="4648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* Удаленность экрана от переднего края стола равна 60-70 см, таким образом, будет соблюдаться требуемая зрительная дистан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572000" y="1447920"/>
            <a:ext cx="4266360" cy="3569400"/>
            <a:chOff x="4572000" y="1447920"/>
            <a:chExt cx="4266360" cy="3569400"/>
          </a:xfrm>
        </p:grpSpPr>
        <p:grpSp>
          <p:nvGrpSpPr>
            <p:cNvPr id="135" name=""/>
            <p:cNvGrpSpPr/>
            <p:nvPr/>
          </p:nvGrpSpPr>
          <p:grpSpPr>
            <a:xfrm>
              <a:off x="4572000" y="1447920"/>
              <a:ext cx="4266360" cy="3569400"/>
              <a:chOff x="4572000" y="1447920"/>
              <a:chExt cx="4266360" cy="3569400"/>
            </a:xfrm>
          </p:grpSpPr>
          <p:pic>
            <p:nvPicPr>
              <p:cNvPr id="13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572000" y="1447920"/>
                <a:ext cx="4266360" cy="356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>
                <a:off x="6329160" y="2597400"/>
                <a:ext cx="439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 Narrow"/>
                  </a:rPr>
                  <a:t>8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 flipV="1">
              <a:off x="5976720" y="2807640"/>
              <a:ext cx="105408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921800" y="0"/>
            <a:ext cx="1222200" cy="112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1C5FB-4115-4AD5-BD87-41180EC2A8D4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CFC7ED-AA1E-4355-B34E-3AB6C0B591E5}" type="datetime1">
              <a:rPr lang="en-US"/>
              <a:t>07/29/26</a:t>
            </a:fld>
          </a:p>
        </p:txBody>
      </p:sp>
    </p:spTree>
  </p:cSld>
  <p:transition>
    <p:pull dir="r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ff"/>
                </a:solidFill>
                <a:latin typeface="Lucida Sans Unicode"/>
              </a:rPr>
              <a:t>Режим и длительность занятий с использованием П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Ребенок ежедневно, особенно в учебном году, получает огромное количество разнообразной информации и основное восприятие окружающего мира идет через орган зрения.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562720" y="1981080"/>
            <a:ext cx="2884320" cy="3886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921800" y="0"/>
            <a:ext cx="1222200" cy="1120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B825E-0658-48C3-9372-D9580C5BDDC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F67198-BB41-4D6F-BDDD-7FD8383A0EA0}" type="datetime1">
              <a:rPr lang="en-US"/>
              <a:t>07/29/26</a:t>
            </a:fld>
          </a:p>
        </p:txBody>
      </p:sp>
    </p:spTree>
  </p:cSld>
  <p:transition>
    <p:pull dir="r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9-03-20T20:54:56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